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122E-58FA-4B89-B04B-18F11C9D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772-8A56-42EB-AD84-A56AB2FF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D1EB-9EA7-4D1E-BF3C-1CAAA4A8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E3AF-F399-465C-94F9-41CC6903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0229-6FE6-4124-A97C-6B7B6B0E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E2D8-E4FC-4DF0-9D47-18F2AEBA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CC81-ADF4-4092-BC1F-78475D4B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F590-CCFA-4C29-A5CE-44EEDB8B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64F8-3F91-4382-BB80-5071EE56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BE61-9DDF-43D5-9A03-5E33FE18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D2D3-F2D1-4EEB-A243-2CD9F0F4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AE5A-B907-41B3-8EAB-B676D9F7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3E8B-82E6-4C81-BE0C-A372372E7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Randomiz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553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7724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086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73915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4343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438280" y="3886200"/>
            <a:ext cx="1219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739152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90720" y="3276720"/>
            <a:ext cx="7315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1752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2514600"/>
            <a:ext cx="7391160" cy="838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90920" y="2971800"/>
            <a:ext cx="1371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90720" y="3581280"/>
            <a:ext cx="7391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91520" cy="1676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7391520" cy="99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914400" y="3200400"/>
            <a:ext cx="7391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410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58000" y="5715000"/>
            <a:ext cx="1523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10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391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4876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5334120"/>
            <a:ext cx="85341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With randomization, you hope that the distribution of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variables are distributed similarly in the groups being comp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315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15:03:46Z</dcterms:modified>
  <cp:revision>43</cp:revision>
  <dc:subject/>
  <dc:title>PowerPoint Presentation</dc:title>
</cp:coreProperties>
</file>